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C242E-7009-4F5E-ADBC-D7D446BF4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first many teachers gather data because they have to and if they don’t have to – they don’t collect it. All teachers are at a different place in the journey – its important that this is recognised and people feel ok about this. This isn't always the case though and I think its important to accept that their will be rough patches, smooth patches etc</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hole philosophy of assessment must be purposefu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 setting in teams is more meaningful there more effective</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hole philosophy of assessment must be purposefu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 setting in teams is more meaningful there more effective</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Student voice, student achievement, teacher practice</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Student voice, student achievement, teacher practice</a:t>
            </a:r>
            <a:endParaRPr b="0" lang="en-US" sz="16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WO: </a:t>
            </a:r>
            <a:r>
              <a:rPr b="0" i="1" lang="en-US" sz="1600" spc="-1" strike="noStrike">
                <a:solidFill>
                  <a:srgbClr val="000000"/>
                </a:solidFill>
                <a:latin typeface="Arial"/>
              </a:rPr>
              <a:t>it means that:</a:t>
            </a:r>
            <a:endParaRPr b="0" lang="en-US" sz="1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ers carefully construct their programme to ensure they are </a:t>
            </a:r>
            <a:r>
              <a:rPr b="1" lang="en-US" sz="1600" spc="-1" strike="noStrike">
                <a:solidFill>
                  <a:srgbClr val="000000"/>
                </a:solidFill>
                <a:latin typeface="Arial"/>
              </a:rPr>
              <a:t>interesting and relevant</a:t>
            </a:r>
            <a:r>
              <a:rPr b="0" lang="en-US" sz="1600" spc="-1" strike="noStrike">
                <a:solidFill>
                  <a:srgbClr val="000000"/>
                </a:solidFill>
                <a:latin typeface="Arial"/>
              </a:rPr>
              <a:t> to students </a:t>
            </a:r>
            <a:endParaRPr b="0" lang="en-US" sz="1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needs are acknowledged</a:t>
            </a:r>
            <a:r>
              <a:rPr b="0" lang="en-US" sz="1600" spc="-1" strike="noStrike">
                <a:solidFill>
                  <a:srgbClr val="000000"/>
                </a:solidFill>
                <a:latin typeface="Arial"/>
              </a:rPr>
              <a:t> and reflected in the teaching strategies they us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ositive school culture that enables changes is essentia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on research was a place that we started but it doesn’t have to be this way. </a:t>
            </a:r>
            <a:endParaRPr b="0" lang="en-US" sz="16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haps most interestingly we were asked:</a:t>
            </a:r>
            <a:endParaRPr b="0" lang="en-US" sz="16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hallenge for us as school leaders now</a:t>
            </a:r>
            <a:endParaRPr b="0" lang="en-US" sz="16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appraisal process is currently in the process of being changed anyway.</a:t>
            </a:r>
            <a:endParaRPr b="0" lang="en-US" sz="16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technology and arts programme is an important feprogramme. Again the class sizes are the smalles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on’t be changing the basic structure though, comprised of……</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means of maintaining an element of choice for our staff……….</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also true when trying to develop an “all-in” concept in deprivatised practice? Community of learners. It doesn’t really matter where you start</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teachers to inquire about their classroom practice enables them to become better practitioner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the need for change: All teachers complete Action Research projects and feed back results during staff meetings and appraisal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d evidence: teacher practice data, student voice, student learning/achievement data – give examples</a:t>
            </a:r>
            <a:endParaRPr b="0" lang="en-US" sz="1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idence of quality teaching and learning</a:t>
            </a:r>
            <a:endParaRPr b="0" lang="en-US" sz="1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idence based Assessment, Planning and Evaluation</a:t>
            </a:r>
            <a:endParaRPr b="0" lang="en-US" sz="1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are we doing what we are doing? Can we justify i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ed in Practice</a:t>
            </a:r>
            <a:endParaRPr b="0" lang="en-US" sz="1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teacher frustration with in-class modelling</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developed a strategy of doing things together. </a:t>
            </a:r>
            <a:endParaRPr b="0" lang="en-US" sz="1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whole staff we have engaged in collective vision building and implementation project over the past two years</a:t>
            </a:r>
            <a:endParaRPr b="0" lang="en-US" sz="1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whole staff exploration of what quality teaching and learning look like in each curriculum area</a:t>
            </a:r>
            <a:endParaRPr b="0" lang="en-US" sz="1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S learner?</a:t>
            </a:r>
            <a:endParaRPr b="0" lang="en-US" sz="1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ing Walks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value professional discussions so we stick to meeting dates etc and provide release time where necessary for people to work together.</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B610A-2609-4632-A96A-BDD13794F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4AA1F-0271-4291-97E5-6E2A64B47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4C6AD-21C3-474F-AF5F-D0BC1A4BF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C1F05-DD51-42C8-9807-F7573850C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C9BCC-60CD-47ED-9C29-72CA437DB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652E4-6964-443D-B0C8-A0FE02580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5061E-DA8A-4847-B5EC-B20B12EEA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E1DC2-A9AB-41B2-840C-C82C3E890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E3F43-1000-4C3E-A439-BF209B81A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F835A-2541-4C56-A8C2-A72D4B8B0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F1CC0-27BD-45ED-824A-F8B231A8E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CBEE7-0610-4C18-8CF5-2484BDBE09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F0C89-DF18-42C8-9481-12B1AB1FBA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2742840"/>
            <a:ext cx="8547120" cy="1531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We are all learners: changing a school culture</a:t>
            </a:r>
            <a:br>
              <a:rPr sz="6000"/>
            </a:br>
            <a:br>
              <a:rPr sz="2700"/>
            </a:br>
            <a:r>
              <a:rPr b="1" lang="en-US" sz="3600" spc="-1" strike="noStrike">
                <a:solidFill>
                  <a:srgbClr val="000000"/>
                </a:solidFill>
                <a:latin typeface="Arial"/>
              </a:rPr>
              <a:t>Tanya Thompson and Keith Jackson</a:t>
            </a:r>
            <a:r>
              <a:rPr b="1" lang="en-US" sz="4000" spc="-1" strike="noStrike">
                <a:solidFill>
                  <a:srgbClr val="000000"/>
                </a:solidFill>
                <a:latin typeface="Arial"/>
              </a:rPr>
              <a:t> </a:t>
            </a:r>
            <a:br>
              <a:rPr sz="4000"/>
            </a:br>
            <a:r>
              <a:rPr b="1" lang="en-US" sz="4000" spc="-1" strike="noStrike">
                <a:solidFill>
                  <a:srgbClr val="000000"/>
                </a:solidFill>
                <a:latin typeface="Arial"/>
              </a:rPr>
              <a:t>St Andrews Middle School</a:t>
            </a:r>
            <a:endParaRPr b="0" lang="en-US" sz="4000" spc="-1" strike="noStrike">
              <a:solidFill>
                <a:srgbClr val="000000"/>
              </a:solidFill>
              <a:latin typeface="Times New Roman"/>
            </a:endParaRPr>
          </a:p>
        </p:txBody>
      </p:sp>
      <p:pic>
        <p:nvPicPr>
          <p:cNvPr id="49" name="" descr=""/>
          <p:cNvPicPr/>
          <p:nvPr/>
        </p:nvPicPr>
        <p:blipFill>
          <a:blip r:embed="rId2"/>
          <a:stretch/>
        </p:blipFill>
        <p:spPr>
          <a:xfrm>
            <a:off x="0" y="6603840"/>
            <a:ext cx="10159920" cy="10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44720" y="420480"/>
            <a:ext cx="8547120" cy="1531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tion Research Process</a:t>
            </a:r>
            <a:endParaRPr b="0" lang="en-US" sz="4400" spc="-1" strike="noStrike">
              <a:solidFill>
                <a:srgbClr val="000000"/>
              </a:solidFill>
              <a:latin typeface="Times New Roman"/>
            </a:endParaRPr>
          </a:p>
        </p:txBody>
      </p:sp>
      <p:pic>
        <p:nvPicPr>
          <p:cNvPr id="59" name="" descr=""/>
          <p:cNvPicPr/>
          <p:nvPr/>
        </p:nvPicPr>
        <p:blipFill>
          <a:blip r:embed="rId2"/>
          <a:stretch/>
        </p:blipFill>
        <p:spPr>
          <a:xfrm>
            <a:off x="2263680" y="1809720"/>
            <a:ext cx="6066000" cy="4064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620640" y="558720"/>
            <a:ext cx="9055080" cy="45442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Arial"/>
              </a:rPr>
              <a:t>Teacher reaction </a:t>
            </a:r>
            <a:endParaRPr b="0" lang="en-US" sz="49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Arial"/>
              </a:rPr>
              <a:t>to Student voice</a:t>
            </a:r>
            <a:r>
              <a:rPr b="1" lang="en-US" sz="3600" spc="-1" strike="noStrike">
                <a:solidFill>
                  <a:srgbClr val="000000"/>
                </a:solidFill>
                <a:latin typeface="Arial"/>
              </a:rPr>
              <a:t> </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o you collect student voice? </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do you do with it?</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oes it impact on your teaching and learning?</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806400" y="1860480"/>
            <a:ext cx="8547120" cy="15321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900" spc="-1" strike="noStrike">
                <a:solidFill>
                  <a:srgbClr val="000000"/>
                </a:solidFill>
                <a:latin typeface="Arial"/>
              </a:rPr>
              <a:t>What role do structures play initiating, progressing and sustaining change?</a:t>
            </a:r>
            <a:r>
              <a:rPr b="0" i="1" lang="en-US" sz="4400" spc="-1" strike="noStrike">
                <a:solidFill>
                  <a:srgbClr val="000000"/>
                </a:solidFill>
                <a:latin typeface="Arial"/>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6320" y="579600"/>
            <a:ext cx="8153640" cy="7095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Arial"/>
              </a:rPr>
              <a:t>Internal Structures</a:t>
            </a:r>
            <a:endParaRPr b="0" lang="en-US" sz="4900" spc="-1" strike="noStrike">
              <a:solidFill>
                <a:srgbClr val="000000"/>
              </a:solidFill>
              <a:latin typeface="Times New Roman"/>
            </a:endParaRPr>
          </a:p>
        </p:txBody>
      </p:sp>
      <p:sp>
        <p:nvSpPr>
          <p:cNvPr id="63" name=""/>
          <p:cNvSpPr/>
          <p:nvPr/>
        </p:nvSpPr>
        <p:spPr>
          <a:xfrm>
            <a:off x="1123920" y="1781280"/>
            <a:ext cx="8713800" cy="3646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ear School-wide Expectations</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ust established within the school culture</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staff complete projects</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ole school PD</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analysis – individual teachers</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1684440" y="1620720"/>
            <a:ext cx="7910280" cy="31258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vidence based planning and assessment</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learning should be transparent </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professional culture of learning and teaching</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1363680" y="1058760"/>
            <a:ext cx="7432560" cy="2764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ff Meetings</a:t>
            </a:r>
            <a:r>
              <a:rPr b="0" lang="en-US" sz="3600" spc="-1" strike="noStrike">
                <a:solidFill>
                  <a:srgbClr val="000000"/>
                </a:solidFill>
                <a:latin typeface="Arial"/>
              </a:rPr>
              <a:t> </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taff meetings are specifically set aside for goal setting/assessment, discussion of professional readings and sharing and celebration of teachers practice.</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1363680" y="660240"/>
            <a:ext cx="7432560" cy="384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Class /Professional Support</a:t>
            </a:r>
            <a:r>
              <a:rPr b="0" lang="en-US" sz="3600" spc="-1" strike="noStrike">
                <a:solidFill>
                  <a:srgbClr val="000000"/>
                </a:solidFill>
                <a:latin typeface="Arial"/>
              </a:rPr>
              <a:t> </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odelling of best practice</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lease time</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oth in-house and consultant knowledge base of best practice</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dividual/group support with planning and assessment</a:t>
            </a: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044720" y="900000"/>
            <a:ext cx="8793000" cy="2952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aisal Process </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taff set goals in relation to their practice in appraisal documentation</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taff collect baseline/comparative data</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eachers keep a reflective journal</a:t>
            </a: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804960" y="1058760"/>
            <a:ext cx="8791560" cy="2817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class appraisal where teachers demonstrate changes made due to projects</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eachers must share projects with staff during staff meetings during the year</a:t>
            </a:r>
            <a:endParaRPr b="0" lang="en-US" sz="3100" spc="-1" strike="noStrike">
              <a:solidFill>
                <a:srgbClr val="000000"/>
              </a:solidFill>
              <a:latin typeface="Times New Roman"/>
            </a:endParaRPr>
          </a:p>
          <a:p>
            <a:pPr lvl="4" marL="1714680" indent="-228600">
              <a:lnSpc>
                <a:spcPct val="95000"/>
              </a:lnSpc>
              <a:buClr>
                <a:srgbClr val="000000"/>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Keith to discuss further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723960" y="1058760"/>
            <a:ext cx="8631000" cy="4052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le teachers hold initial concerns about additional work involved in changing their practice, these tend to dissolve as teachers realise the benefits these projects can have on their practice and the enjoyment of their profession.</a:t>
            </a:r>
            <a:r>
              <a:rPr b="0" lang="en-US" sz="3600" spc="-1" strike="noStrike">
                <a:solidFill>
                  <a:srgbClr val="000000"/>
                </a:solidFill>
                <a:latin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57160" y="914040"/>
            <a:ext cx="8547120" cy="1531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w do you go about changing a school culture when your aspiration is to develop “all-in” participation in </a:t>
            </a:r>
            <a:br>
              <a:rPr sz="4400"/>
            </a:br>
            <a:r>
              <a:rPr b="1" lang="en-US" sz="4400" spc="-1" strike="noStrike">
                <a:solidFill>
                  <a:srgbClr val="000000"/>
                </a:solidFill>
                <a:latin typeface="Arial"/>
              </a:rPr>
              <a:t>deprivatised practice?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804960" y="1541520"/>
            <a:ext cx="8631000" cy="34736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privatising classroom practice and allowing teachers to reflect enables them to feel empowered and therefore empowering their students. </a:t>
            </a:r>
            <a:endParaRPr b="0" lang="en-US" sz="4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723960" y="500040"/>
            <a:ext cx="8631000" cy="3692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ll stakeholders can make real decisions as active members of a community of learning therefore enhancing student learning and achievement.</a:t>
            </a:r>
            <a:r>
              <a:rPr b="0" lang="en-US" sz="4000" spc="-1" strike="noStrike">
                <a:solidFill>
                  <a:srgbClr val="000000"/>
                </a:solidFill>
                <a:latin typeface="Arial"/>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806400" y="2099880"/>
            <a:ext cx="8547120" cy="1531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Arial"/>
              </a:rPr>
              <a:t>Staff were asked: </a:t>
            </a:r>
            <a:br>
              <a:rPr sz="4400"/>
            </a:br>
            <a:br>
              <a:rPr sz="4400"/>
            </a:br>
            <a:r>
              <a:rPr b="0" lang="en-US" sz="4400" spc="-1" strike="noStrike">
                <a:solidFill>
                  <a:srgbClr val="000000"/>
                </a:solidFill>
                <a:latin typeface="Arial"/>
              </a:rPr>
              <a:t>What was working well for them with regard to action research and if they had concerns what were the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806400" y="2099880"/>
            <a:ext cx="8547120" cy="1531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When you’ve gathered staff voices, what do you do differently to ensure that they are heard and acted on?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900" spc="-1" strike="noStrike">
                <a:solidFill>
                  <a:srgbClr val="000000"/>
                </a:solidFill>
                <a:latin typeface="Arial"/>
              </a:rPr>
              <a:t>Working well</a:t>
            </a:r>
            <a:endParaRPr b="0" lang="en-US" sz="4900" spc="-1" strike="noStrike">
              <a:solidFill>
                <a:srgbClr val="000000"/>
              </a:solidFill>
              <a:latin typeface="Times New Roman"/>
            </a:endParaRPr>
          </a:p>
        </p:txBody>
      </p:sp>
      <p:sp>
        <p:nvSpPr>
          <p:cNvPr id="75" name="PlaceHolder 2"/>
          <p:cNvSpPr>
            <a:spLocks noGrp="1"/>
          </p:cNvSpPr>
          <p:nvPr>
            <p:ph type="subTitle"/>
          </p:nvPr>
        </p:nvSpPr>
        <p:spPr>
          <a:xfrm>
            <a:off x="564840" y="210024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 they had choice in what they researched</a:t>
            </a:r>
            <a:endParaRPr b="0" lang="en-US" sz="4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ssurance that they were on the right track in what they were doing and how they were doing it</a:t>
            </a:r>
            <a:r>
              <a:rPr b="0" lang="en-US" sz="3600" spc="-1" strike="noStrike">
                <a:solidFill>
                  <a:srgbClr val="000000"/>
                </a:solidFill>
                <a:latin typeface="Arial"/>
              </a:rPr>
              <a:t>.</a:t>
            </a:r>
            <a:endParaRPr b="0" lang="en-US" sz="3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subTitle"/>
          </p:nvPr>
        </p:nvSpPr>
        <p:spPr>
          <a:xfrm>
            <a:off x="860400" y="1150920"/>
            <a:ext cx="90568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 provided an opportunity for a teacher to be self-reflective</a:t>
            </a:r>
            <a:endParaRPr b="0" lang="en-US" sz="4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portunity was provided to work collectively with other team member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324000" y="1224360"/>
            <a:ext cx="9353520" cy="452952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342720" algn="ct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ty was provided to work collectively with other team members</a:t>
            </a:r>
            <a:endParaRPr b="0" lang="en-US" sz="4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lvl="1" marL="457200" indent="-342720" algn="ct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raised awareness of issues</a:t>
            </a:r>
            <a:endParaRPr b="0" lang="en-US" sz="4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subTitle"/>
          </p:nvPr>
        </p:nvSpPr>
        <p:spPr>
          <a:xfrm>
            <a:off x="699840" y="818640"/>
            <a:ext cx="9055080" cy="49294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results that they could see and get feedback on</a:t>
            </a:r>
            <a:endParaRPr b="0" lang="en-US" sz="4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ing programme to accommodate new information foun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4280" y="355320"/>
            <a:ext cx="9055440" cy="116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
          <p:cNvSpPr/>
          <p:nvPr/>
        </p:nvSpPr>
        <p:spPr>
          <a:xfrm>
            <a:off x="484200" y="810000"/>
            <a:ext cx="9245520" cy="4993200"/>
          </a:xfrm>
          <a:prstGeom prst="rect">
            <a:avLst/>
          </a:prstGeom>
          <a:noFill/>
          <a:ln w="0">
            <a:noFill/>
          </a:ln>
        </p:spPr>
        <p:style>
          <a:lnRef idx="0"/>
          <a:fillRef idx="0"/>
          <a:effectRef idx="0"/>
          <a:fontRef idx="minor"/>
        </p:style>
        <p:txBody>
          <a:bodyPr lIns="0" rIns="0" tIns="0" bIns="0" anchor="ctr">
            <a:spAutoFit/>
          </a:bodyPr>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900" spc="-1" strike="noStrike">
                <a:solidFill>
                  <a:srgbClr val="000000"/>
                </a:solidFill>
                <a:latin typeface="Arial"/>
              </a:rPr>
              <a:t>Concerns</a:t>
            </a:r>
            <a:endParaRPr b="0" lang="en-US" sz="49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jects were creating additional work</a:t>
            </a:r>
            <a:endParaRPr b="0" lang="en-US" sz="4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mands created were excessive</a:t>
            </a:r>
            <a:endParaRPr b="0" lang="en-US" sz="4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 was perceived to be external to what the essence of their job was</a:t>
            </a:r>
            <a:endParaRPr b="0" lang="en-US" sz="4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552240" y="579600"/>
            <a:ext cx="9055080" cy="61768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were not seeing the benefits of the process – they asked what has changed?</a:t>
            </a:r>
            <a:endParaRPr b="0" lang="en-US" sz="4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teachers were not gaining professional satisfaction from doing the projects</a:t>
            </a:r>
            <a:endParaRPr b="0" lang="en-US" sz="4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804960" y="1380960"/>
            <a:ext cx="8550000" cy="36183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Action research is the study of a social situation with a view to improving the quality of action within it.</a:t>
            </a:r>
            <a:endParaRPr b="0" lang="en-US" sz="49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rdno and Piggot-Irvine, 1991</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felt that they were not held accountable enough and that there needed to be better evaluation of projec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3840" y="2500200"/>
            <a:ext cx="9055080" cy="11700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And…..could it not be linked more tightly to the appraisal process?</a:t>
            </a:r>
            <a:endParaRPr b="0" lang="en-US" sz="4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0" lang="en-US" sz="4400" spc="-1" strike="noStrike">
                <a:solidFill>
                  <a:srgbClr val="000000"/>
                </a:solidFill>
                <a:latin typeface="Arial"/>
              </a:rPr>
              <a:t>How can we continue to foster our professional reflective culture of teaching and learning leading to chang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404640" y="420840"/>
            <a:ext cx="9055440" cy="545616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1" marL="457200" indent="-342720" algn="ct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want to continue to move forward and to maintain the trust of our staff at the same time</a:t>
            </a:r>
            <a:endParaRPr b="0" lang="en-US" sz="4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king the process relevant to all and a central component of a positive learning culture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ur appraisal system is currently under self-review</a:t>
            </a:r>
            <a:endParaRPr b="0" lang="en-US" sz="4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603440" y="819000"/>
            <a:ext cx="9193320" cy="36468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fessional Standards</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Professional Objectives</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Teacher expectations </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Teacher Attest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52240" y="260280"/>
            <a:ext cx="9055080" cy="11685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FESSIONAL OBJECTIVES</a:t>
            </a:r>
            <a:endParaRPr b="0" lang="en-US" sz="3600" spc="-1" strike="noStrike">
              <a:solidFill>
                <a:srgbClr val="000000"/>
              </a:solidFill>
              <a:latin typeface="Times New Roman"/>
            </a:endParaRPr>
          </a:p>
        </p:txBody>
      </p:sp>
      <p:sp>
        <p:nvSpPr>
          <p:cNvPr id="90" name="PlaceHolder 2"/>
          <p:cNvSpPr>
            <a:spLocks noGrp="1"/>
          </p:cNvSpPr>
          <p:nvPr>
            <p:ph type="subTitle"/>
          </p:nvPr>
        </p:nvSpPr>
        <p:spPr>
          <a:xfrm>
            <a:off x="564840" y="1380960"/>
            <a:ext cx="9055080" cy="4927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are expecting teachers to set goals for themselves under:</a:t>
            </a:r>
            <a:endParaRPr b="0" lang="en-US" sz="3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ising the achievement of students </a:t>
            </a:r>
            <a:endParaRPr b="0" lang="en-US" sz="3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 Teaching techniques </a:t>
            </a:r>
            <a:endParaRPr b="0" lang="en-US" sz="3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 A choice from school-wide foc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e are proposing that Action Research will be the process used in meeting any one of these 3 Professional Objectives</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Next steps…</a:t>
            </a:r>
            <a:endParaRPr b="0" lang="en-US" sz="4900" spc="-1" strike="noStrike">
              <a:solidFill>
                <a:srgbClr val="000000"/>
              </a:solidFill>
              <a:latin typeface="Times New Roman"/>
            </a:endParaRPr>
          </a:p>
        </p:txBody>
      </p:sp>
      <p:sp>
        <p:nvSpPr>
          <p:cNvPr id="93"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vise with staff the procedures already set out for carrying out Action Research and clarify any confusion</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stablish that each teacher is to gather their evidence and align it to their Action Research goal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203480" y="977760"/>
            <a:ext cx="7832520" cy="30690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000000"/>
                </a:solidFill>
                <a:latin typeface="Arial"/>
              </a:rPr>
              <a:t>No matter where you start…</a:t>
            </a:r>
            <a:endParaRPr b="0" lang="en-US" sz="53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000000"/>
                </a:solidFill>
                <a:latin typeface="Arial"/>
              </a:rPr>
              <a:t>each component spirals into the others</a:t>
            </a:r>
            <a:endParaRPr b="0" lang="en-US" sz="5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ch teacher is to gather their evidence and align it to their action research goals as part of the work they are currently doing to show the difference they have made through their Deliberate Acts of Teach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564840" y="1139760"/>
            <a:ext cx="9055080" cy="492912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teachers wish to work collaboratively in teams the chance is there to set up small Quality Learning Circles to enable internal and external moderation to occur where appropriate.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ch participant could take part in a cycle of both observing and being observed in a focused teaching session where the outcomes for the students were explicitly linked to DA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565200" y="819000"/>
            <a:ext cx="9190080" cy="5064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Arial"/>
              </a:rPr>
              <a:t>Developing a positive learning culture</a:t>
            </a:r>
            <a:r>
              <a:rPr b="1" i="1" lang="en-US" sz="4000" spc="-1" strike="noStrike">
                <a:solidFill>
                  <a:srgbClr val="000000"/>
                </a:solidFill>
                <a:latin typeface="Arial"/>
              </a:rPr>
              <a:t> </a:t>
            </a:r>
            <a:endParaRPr b="0" lang="en-US" sz="4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It is essential to remember that we are all learners.</a:t>
            </a: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Developing an “all-in” philosophy can help to deprivatise classrooms.</a:t>
            </a: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Student voice when acted upon can enhance teaching and learning.</a:t>
            </a: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565200" y="977760"/>
            <a:ext cx="9190080" cy="3458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Arial"/>
              </a:rPr>
              <a:t>Developing a positive learning culture</a:t>
            </a:r>
            <a:r>
              <a:rPr b="1" i="1" lang="en-US" sz="4000" spc="-1" strike="noStrike">
                <a:solidFill>
                  <a:srgbClr val="000000"/>
                </a:solidFill>
                <a:latin typeface="Arial"/>
              </a:rPr>
              <a:t> </a:t>
            </a:r>
            <a:endParaRPr b="0" lang="en-US" sz="4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Internal structures play an important role in initiating, developing and sustaining change.</a:t>
            </a: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It is essential to engage staff, students and families in a community of learning. </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1044720" y="739800"/>
            <a:ext cx="8151840" cy="3836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300" spc="-1" strike="noStrike">
                <a:solidFill>
                  <a:srgbClr val="000000"/>
                </a:solidFill>
                <a:latin typeface="Arial"/>
              </a:rPr>
              <a:t>We are all learners…</a:t>
            </a:r>
            <a:endParaRPr b="0" lang="en-US" sz="53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300" spc="-1" strike="noStrike">
                <a:solidFill>
                  <a:srgbClr val="000000"/>
                </a:solidFill>
                <a:latin typeface="Arial"/>
              </a:rPr>
              <a:t>We aspire to engage our staff, students and families in a community of learning</a:t>
            </a:r>
            <a:endParaRPr b="0" lang="en-US" sz="5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0" y="6200640"/>
            <a:ext cx="10159920" cy="1049400"/>
          </a:xfrm>
          <a:prstGeom prst="rect">
            <a:avLst/>
          </a:prstGeom>
          <a:ln w="0">
            <a:noFill/>
          </a:ln>
        </p:spPr>
      </p:pic>
      <p:sp>
        <p:nvSpPr>
          <p:cNvPr id="101" name=""/>
          <p:cNvSpPr/>
          <p:nvPr/>
        </p:nvSpPr>
        <p:spPr>
          <a:xfrm>
            <a:off x="1044720" y="2625840"/>
            <a:ext cx="8151840" cy="767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300" spc="-1" strike="noStrike">
                <a:solidFill>
                  <a:srgbClr val="000000"/>
                </a:solidFill>
                <a:latin typeface="Arial"/>
              </a:rPr>
              <a:t>We hope you will too…</a:t>
            </a:r>
            <a:endParaRPr b="0" lang="en-US" sz="5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203480" y="1725480"/>
            <a:ext cx="7832520" cy="25462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me ways to allow for classroom practice to be deprivatised in an ‘all in’ manne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804960" y="1131480"/>
            <a:ext cx="9513720" cy="3646800"/>
          </a:xfrm>
          <a:prstGeom prst="rect">
            <a:avLst/>
          </a:prstGeom>
          <a:noFill/>
          <a:ln w="0">
            <a:noFill/>
          </a:ln>
        </p:spPr>
        <p:style>
          <a:lnRef idx="0"/>
          <a:fillRef idx="0"/>
          <a:effectRef idx="0"/>
          <a:fontRef idx="minor"/>
        </p:style>
        <p:txBody>
          <a:bodyPr lIns="0" rIns="0" tIns="0" bIns="0" anchor="ctr">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achers need to see the necessity for change for themselves.</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achers need to see hard evidence </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achers need to be supported when modifying their practice.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565200" y="1069920"/>
            <a:ext cx="9190080" cy="49194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If it’s worth doing …..then it’s worth </a:t>
            </a:r>
            <a:r>
              <a:rPr b="1" i="1" lang="en-US" sz="4400" spc="-1" strike="noStrike">
                <a:solidFill>
                  <a:srgbClr val="000000"/>
                </a:solidFill>
                <a:latin typeface="Arial"/>
              </a:rPr>
              <a:t>all of us</a:t>
            </a:r>
            <a:r>
              <a:rPr b="0" i="1" lang="en-US" sz="4400" spc="-1" strike="noStrike">
                <a:solidFill>
                  <a:srgbClr val="000000"/>
                </a:solidFill>
                <a:latin typeface="Arial"/>
              </a:rPr>
              <a:t> doing it!</a:t>
            </a:r>
            <a:endParaRPr b="0" lang="en-US" sz="4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le school PD and Staff meetings</a:t>
            </a:r>
            <a:endParaRPr b="0" lang="en-US" sz="4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legial discussions based on teaching and learning</a:t>
            </a:r>
            <a:r>
              <a:rPr b="0" lang="en-US" sz="4400" spc="-1" strike="noStrike">
                <a:solidFill>
                  <a:srgbClr val="000000"/>
                </a:solidFill>
                <a:latin typeface="Arial"/>
              </a:rPr>
              <a:t> </a:t>
            </a:r>
            <a:endParaRPr b="0" lang="en-US" sz="4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723960" y="1788840"/>
            <a:ext cx="9113760" cy="254628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cher reflection within the classroom leads to </a:t>
            </a:r>
            <a:endParaRPr b="0" lang="en-US" sz="4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er teacher confidence </a:t>
            </a:r>
            <a:endParaRPr b="0" lang="en-US" sz="4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a positive culture of chang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723960" y="1788840"/>
            <a:ext cx="9113760" cy="254628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cher reflection within the classroom leads to </a:t>
            </a:r>
            <a:endParaRPr b="0" lang="en-US" sz="4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er teacher confidence </a:t>
            </a:r>
            <a:endParaRPr b="0" lang="en-US" sz="4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a positive culture of chang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